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0e7d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9DA5-5EAE-4059-98C1-0B7807FBCB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1A00-8E38-4207-ACE2-406613011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Text Box 4"/>
          <p:cNvSpPr/>
          <p:nvPr/>
        </p:nvSpPr>
        <p:spPr>
          <a:xfrm>
            <a:off x="1203480" y="46594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CCE0-408F-46F8-8DC5-BAD638916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5F9E-9273-4CF4-A4D0-456276FDA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0B37-6C47-4CC2-A81F-AB8C2AAED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BC24-86D5-48AB-9F86-7531005B0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1B46-A98D-46F3-B018-2A35CBD71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Text Box 4"/>
          <p:cNvSpPr/>
          <p:nvPr/>
        </p:nvSpPr>
        <p:spPr>
          <a:xfrm>
            <a:off x="1203480" y="46594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1FC5-26AB-46FF-B5C9-082AC183B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Text Box 4"/>
          <p:cNvSpPr/>
          <p:nvPr/>
        </p:nvSpPr>
        <p:spPr>
          <a:xfrm>
            <a:off x="1203480" y="46594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786E-0401-4E42-AC46-D1E1DBADC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C3E6-3243-4AB9-BFF1-DEFCB2AA6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3295-54C3-492B-9F3F-AF74553D8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BFDA-D06F-426C-BCF4-9929498C9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A6A2-AC5A-4D9A-BBA6-BAE2A83EC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Text Box 4"/>
          <p:cNvSpPr/>
          <p:nvPr/>
        </p:nvSpPr>
        <p:spPr>
          <a:xfrm>
            <a:off x="1050840" y="46594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44B8-1D42-4BEB-91E3-9CC0430F7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Rectangle 5"/>
          <p:cNvSpPr/>
          <p:nvPr/>
        </p:nvSpPr>
        <p:spPr>
          <a:xfrm>
            <a:off x="3421080" y="5079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EA25-77DA-42E0-AEA0-14D130CFD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453C-8EAB-4C3F-8758-DDBA82A77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5784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187280"/>
            <a:ext cx="777240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1371600" y="85680"/>
            <a:ext cx="777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KS 8C: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alculate percent composition and empirical and molecular formul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0e7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PE_Anc_CopyrightLine_GS"/>
          <p:cNvPicPr/>
          <p:nvPr/>
        </p:nvPicPr>
        <p:blipFill>
          <a:blip r:embed="rId2"/>
          <a:stretch/>
        </p:blipFill>
        <p:spPr>
          <a:xfrm>
            <a:off x="8915400" y="1828800"/>
            <a:ext cx="93600" cy="32796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cd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9" descr="PE_Anc_CopyrightLine_GS"/>
          <p:cNvPicPr/>
          <p:nvPr/>
        </p:nvPicPr>
        <p:blipFill>
          <a:blip r:embed="rId3"/>
          <a:stretch/>
        </p:blipFill>
        <p:spPr>
          <a:xfrm>
            <a:off x="8915400" y="1828800"/>
            <a:ext cx="93600" cy="32796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c515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top_arch2"/>
          <p:cNvPicPr/>
          <p:nvPr/>
        </p:nvPicPr>
        <p:blipFill>
          <a:blip r:embed="rId4"/>
          <a:stretch/>
        </p:blipFill>
        <p:spPr>
          <a:xfrm>
            <a:off x="0" y="0"/>
            <a:ext cx="9144000" cy="107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ulture 1865–1914</a:t>
            </a:r>
            <a:endParaRPr b="1" lang="en-US" sz="2800" spc="-1" strike="noStrike">
              <a:solidFill>
                <a:srgbClr val="130e7d"/>
              </a:solidFill>
              <a:latin typeface="Arial"/>
            </a:endParaRPr>
          </a:p>
        </p:txBody>
      </p:sp>
      <p:pic>
        <p:nvPicPr>
          <p:cNvPr id="52" name="Picture 5" descr="HSUS_ch14_S3_CyYoung"/>
          <p:cNvPicPr/>
          <p:nvPr/>
        </p:nvPicPr>
        <p:blipFill>
          <a:blip r:embed="rId1"/>
          <a:stretch/>
        </p:blipFill>
        <p:spPr>
          <a:xfrm>
            <a:off x="3505320" y="2057400"/>
            <a:ext cx="2325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028880" y="2017800"/>
            <a:ext cx="7467480" cy="4005000"/>
          </a:xfrm>
          <a:prstGeom prst="rect">
            <a:avLst/>
          </a:prstGeom>
          <a:gradFill rotWithShape="0">
            <a:gsLst>
              <a:gs pos="0">
                <a:srgbClr val="e8eae9"/>
              </a:gs>
              <a:gs pos="100000">
                <a:srgbClr val="c9c9ff"/>
              </a:gs>
            </a:gsLst>
            <a:lin ang="5400000"/>
          </a:gradFill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838080" y="1371600"/>
            <a:ext cx="746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hange in the Gilded 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143000" y="2019240"/>
          <a:ext cx="7238880" cy="4000680"/>
        </p:xfrm>
        <a:graphic>
          <a:graphicData uri="http://schemas.openxmlformats.org/drawingml/2006/table">
            <a:tbl>
              <a:tblPr/>
              <a:tblGrid>
                <a:gridCol w="3506760"/>
                <a:gridCol w="3732120"/>
              </a:tblGrid>
              <a:tr h="432000"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Verdana"/>
                          <a:ea typeface="Arial"/>
                        </a:rPr>
                        <a:t>Changes for Wom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Verdana"/>
                          <a:ea typeface="Arial"/>
                        </a:rPr>
                        <a:t>Changes for M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12805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tore-bought clothing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repackaged foods, 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door plumbing </a:t>
                      </a: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Verdana"/>
                          <a:ea typeface="Arial"/>
                        </a:rPr>
                        <a:t>m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Verdana"/>
                          <a:ea typeface="Arial"/>
                        </a:rPr>
                        <a:t>some tasks easi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ublic transportation allowed families </a:t>
                      </a: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Verdana"/>
                          <a:ea typeface="Arial"/>
                        </a:rPr>
                        <a:t>to live farther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Verdana"/>
                          <a:ea typeface="Arial"/>
                        </a:rPr>
                        <a:t>from the citi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12805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ising expectations of cleanliness and more complicated meals </a:t>
                      </a: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Verdana"/>
                          <a:ea typeface="Arial"/>
                        </a:rPr>
                        <a:t>made some tasks hard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en often had to </a:t>
                      </a: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Verdana"/>
                          <a:ea typeface="Arial"/>
                        </a:rPr>
                        <a:t>commute long distance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to work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any women had to </a:t>
                      </a: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Verdana"/>
                          <a:ea typeface="Arial"/>
                        </a:rPr>
                        <a:t>work outside the hom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to achieve a middle-class lifestyl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en worked hard, but the American culture taught that </a:t>
                      </a: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Verdana"/>
                          <a:ea typeface="Arial"/>
                        </a:rPr>
                        <a:t>hard work would pay off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2"/>
          <p:cNvSpPr/>
          <p:nvPr/>
        </p:nvSpPr>
        <p:spPr>
          <a:xfrm flipH="1" rot="10792800">
            <a:off x="1054440" y="1370880"/>
            <a:ext cx="6934320" cy="2971800"/>
          </a:xfrm>
          <a:prstGeom prst="upArrowCallout">
            <a:avLst>
              <a:gd name="adj1" fmla="val 29019"/>
              <a:gd name="adj2" fmla="val 24673"/>
              <a:gd name="adj3" fmla="val 24014"/>
              <a:gd name="adj4" fmla="val 93971"/>
            </a:avLst>
          </a:prstGeom>
          <a:gradFill rotWithShape="0">
            <a:gsLst>
              <a:gs pos="0">
                <a:srgbClr val="cdcdff"/>
              </a:gs>
              <a:gs pos="100000">
                <a:srgbClr val="e8eae9"/>
              </a:gs>
            </a:gsLst>
            <a:lin ang="16194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9"/>
          <p:cNvSpPr/>
          <p:nvPr/>
        </p:nvSpPr>
        <p:spPr>
          <a:xfrm>
            <a:off x="1143000" y="1447920"/>
            <a:ext cx="68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ne of the effects of the spread of transportation, communication, and advertising was that Americans became more alike in their consumption patter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30"/>
          <p:cNvSpPr/>
          <p:nvPr/>
        </p:nvSpPr>
        <p:spPr>
          <a:xfrm>
            <a:off x="1066680" y="4519440"/>
            <a:ext cx="7239240" cy="15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Aft>
                <a:spcPts val="16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ich and poor wore th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same clothing sty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Aft>
                <a:spcPts val="16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eople bought th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same kinds of produc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Aft>
                <a:spcPts val="16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phenomenon is known as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mass cul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29"/>
          <p:cNvSpPr/>
          <p:nvPr/>
        </p:nvSpPr>
        <p:spPr>
          <a:xfrm>
            <a:off x="533520" y="137160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he newspapers of the Gilded Age both reflected and helped create mass cul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837720" y="2895120"/>
            <a:ext cx="4267080" cy="2590920"/>
            <a:chOff x="837720" y="2895120"/>
            <a:chExt cx="4267080" cy="2590920"/>
          </a:xfrm>
        </p:grpSpPr>
        <p:sp>
          <p:nvSpPr>
            <p:cNvPr id="94" name="AutoShape 4"/>
            <p:cNvSpPr/>
            <p:nvPr/>
          </p:nvSpPr>
          <p:spPr>
            <a:xfrm flipH="1" rot="5400000">
              <a:off x="1675080" y="2057040"/>
              <a:ext cx="2590920" cy="4267080"/>
            </a:xfrm>
            <a:prstGeom prst="upArrowCallout">
              <a:avLst>
                <a:gd name="adj1" fmla="val 13418"/>
                <a:gd name="adj2" fmla="val 12500"/>
                <a:gd name="adj3" fmla="val 26069"/>
                <a:gd name="adj4" fmla="val 53315"/>
              </a:avLst>
            </a:prstGeom>
            <a:gradFill rotWithShape="0">
              <a:gsLst>
                <a:gs pos="0">
                  <a:srgbClr val="00b0f0">
                    <a:alpha val="50196"/>
                  </a:srgbClr>
                </a:gs>
                <a:gs pos="100000">
                  <a:srgbClr val="e8eae9"/>
                </a:gs>
              </a:gsLst>
              <a:lin ang="18900000"/>
            </a:gradFill>
            <a:ln w="9360">
              <a:solidFill>
                <a:srgbClr val="ccccff"/>
              </a:solidFill>
              <a:miter/>
            </a:ln>
            <a:effectLst>
              <a:outerShdw dist="53966" dir="2700000" blurRad="0" rotWithShape="0">
                <a:srgbClr val="adc793">
                  <a:alpha val="4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7"/>
            <p:cNvSpPr/>
            <p:nvPr/>
          </p:nvSpPr>
          <p:spPr>
            <a:xfrm>
              <a:off x="916920" y="3111120"/>
              <a:ext cx="294660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Between 1870 and 1900, </a:t>
              </a:r>
              <a:r>
                <a:rPr b="0" lang="en-US" sz="2200" spc="-1" strike="noStrike">
                  <a:solidFill>
                    <a:srgbClr val="0033cc"/>
                  </a:solidFill>
                  <a:latin typeface="Verdana"/>
                </a:rPr>
                <a:t>the number of newspapers increased</a:t>
              </a: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 from about 600 to more than 1,600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Text Box 129"/>
          <p:cNvSpPr/>
          <p:nvPr/>
        </p:nvSpPr>
        <p:spPr>
          <a:xfrm>
            <a:off x="5334120" y="3262320"/>
            <a:ext cx="33526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Ethnic and special-interest publish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atered to the array of urban dwellers, especially immigra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7" descr="MCj04260620000[1]"/>
          <p:cNvPicPr/>
          <p:nvPr/>
        </p:nvPicPr>
        <p:blipFill>
          <a:blip r:embed="rId1"/>
          <a:stretch/>
        </p:blipFill>
        <p:spPr>
          <a:xfrm>
            <a:off x="1547640" y="2630520"/>
            <a:ext cx="1857600" cy="145872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2"/>
          <p:cNvSpPr/>
          <p:nvPr/>
        </p:nvSpPr>
        <p:spPr>
          <a:xfrm flipH="1" rot="5400000">
            <a:off x="761040" y="1828440"/>
            <a:ext cx="3657600" cy="3505320"/>
          </a:xfrm>
          <a:prstGeom prst="upArrowCallout">
            <a:avLst>
              <a:gd name="adj1" fmla="val 21750"/>
              <a:gd name="adj2" fmla="val 19695"/>
              <a:gd name="adj3" fmla="val 14898"/>
              <a:gd name="adj4" fmla="val 46907"/>
            </a:avLst>
          </a:prstGeom>
          <a:gradFill rotWithShape="0">
            <a:gsLst>
              <a:gs pos="0">
                <a:srgbClr val="cdcdff"/>
              </a:gs>
              <a:gs pos="100000">
                <a:srgbClr val="e8eae9"/>
              </a:gs>
            </a:gsLst>
            <a:lin ang="108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914400" y="1828800"/>
            <a:ext cx="25146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Joseph Pulitz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elieved that the job of a newspaper was to inform people and to stir up controversy.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His papers were sensationalisti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4"/>
          <p:cNvGrpSpPr/>
          <p:nvPr/>
        </p:nvGrpSpPr>
        <p:grpSpPr>
          <a:xfrm>
            <a:off x="4571280" y="1752480"/>
            <a:ext cx="3505320" cy="3657240"/>
            <a:chOff x="4571280" y="1752480"/>
            <a:chExt cx="3505320" cy="3657240"/>
          </a:xfrm>
        </p:grpSpPr>
        <p:sp>
          <p:nvSpPr>
            <p:cNvPr id="101" name="AutoShape 5"/>
            <p:cNvSpPr/>
            <p:nvPr/>
          </p:nvSpPr>
          <p:spPr>
            <a:xfrm flipH="1" rot="16200000">
              <a:off x="4494960" y="1828440"/>
              <a:ext cx="3657240" cy="3505320"/>
            </a:xfrm>
            <a:prstGeom prst="upArrowCallout">
              <a:avLst>
                <a:gd name="adj1" fmla="val 21748"/>
                <a:gd name="adj2" fmla="val 19693"/>
                <a:gd name="adj3" fmla="val 14898"/>
                <a:gd name="adj4" fmla="val 46907"/>
              </a:avLst>
            </a:prstGeom>
            <a:gradFill rotWithShape="0">
              <a:gsLst>
                <a:gs pos="0">
                  <a:srgbClr val="83d7e5"/>
                </a:gs>
                <a:gs pos="100000">
                  <a:srgbClr val="e8eae9"/>
                </a:gs>
              </a:gsLst>
              <a:lin ang="0"/>
            </a:gradFill>
            <a:ln w="9360">
              <a:solidFill>
                <a:srgbClr val="ccccff"/>
              </a:solidFill>
              <a:miter/>
            </a:ln>
            <a:effectLst>
              <a:outerShdw dist="53966" dir="2700000" blurRad="0" rotWithShape="0">
                <a:srgbClr val="adc793">
                  <a:alpha val="4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6"/>
            <p:cNvSpPr/>
            <p:nvPr/>
          </p:nvSpPr>
          <p:spPr>
            <a:xfrm>
              <a:off x="5486400" y="1874520"/>
              <a:ext cx="2514600" cy="31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The sensationalistic newspapers of </a:t>
              </a:r>
              <a:r>
                <a:rPr b="1" lang="en-US" sz="2200" spc="-1" strike="noStrike">
                  <a:solidFill>
                    <a:srgbClr val="ff0000"/>
                  </a:solidFill>
                  <a:latin typeface="Verdana"/>
                </a:rPr>
                <a:t>William Randolph Hearst</a:t>
              </a: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200" spc="-1" strike="noStrike">
                  <a:solidFill>
                    <a:srgbClr val="0033cc"/>
                  </a:solidFill>
                  <a:latin typeface="Verdana"/>
                </a:rPr>
                <a:t>competed with Pulitzer</a:t>
              </a:r>
              <a:r>
                <a:rPr b="0" lang="ja-JP" sz="2200" spc="-1" strike="noStrike">
                  <a:solidFill>
                    <a:srgbClr val="0033cc"/>
                  </a:solidFill>
                  <a:latin typeface="Verdana"/>
                </a:rPr>
                <a:t>’</a:t>
              </a:r>
              <a:r>
                <a:rPr b="0" lang="en-US" sz="2200" spc="-1" strike="noStrike">
                  <a:solidFill>
                    <a:srgbClr val="0033cc"/>
                  </a:solidFill>
                  <a:latin typeface="Verdana"/>
                </a:rPr>
                <a:t>s papers</a:t>
              </a: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 for readers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2"/>
          <p:cNvSpPr/>
          <p:nvPr/>
        </p:nvSpPr>
        <p:spPr>
          <a:xfrm flipH="1" rot="10792800">
            <a:off x="1055160" y="1296360"/>
            <a:ext cx="6934320" cy="1979640"/>
          </a:xfrm>
          <a:prstGeom prst="upArrowCallout">
            <a:avLst>
              <a:gd name="adj1" fmla="val 43562"/>
              <a:gd name="adj2" fmla="val 37039"/>
              <a:gd name="adj3" fmla="val 24014"/>
              <a:gd name="adj4" fmla="val 93971"/>
            </a:avLst>
          </a:prstGeom>
          <a:gradFill rotWithShape="0">
            <a:gsLst>
              <a:gs pos="0">
                <a:srgbClr val="cdcdff"/>
              </a:gs>
              <a:gs pos="100000">
                <a:srgbClr val="e8eae9"/>
              </a:gs>
            </a:gsLst>
            <a:lin ang="16194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9"/>
          <p:cNvSpPr/>
          <p:nvPr/>
        </p:nvSpPr>
        <p:spPr>
          <a:xfrm>
            <a:off x="1143000" y="145080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uring the Gilded Age, literature and art that explored harsh realities was popul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0"/>
          <p:cNvSpPr/>
          <p:nvPr/>
        </p:nvSpPr>
        <p:spPr>
          <a:xfrm>
            <a:off x="1066680" y="3514680"/>
            <a:ext cx="7239240" cy="25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Aft>
                <a:spcPts val="1650"/>
              </a:spcAft>
              <a:buClr>
                <a:srgbClr val="00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Stephen Cran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rote about New York slu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Horatio Alg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rote about characters who succeeded through hard wo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Aft>
                <a:spcPts val="1650"/>
              </a:spcAft>
              <a:buClr>
                <a:srgbClr val="00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Robert Henri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d others developed a style of painting known as th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Ashcan School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hich depicted the squalor of New York slu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29"/>
          <p:cNvSpPr/>
          <p:nvPr/>
        </p:nvSpPr>
        <p:spPr>
          <a:xfrm>
            <a:off x="762120" y="1371600"/>
            <a:ext cx="8076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Public education expanded rapidly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s grade-school education became compulsory, more teenagers began attending high schools, and kindergartens open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9"/>
          <p:cNvSpPr/>
          <p:nvPr/>
        </p:nvSpPr>
        <p:spPr>
          <a:xfrm>
            <a:off x="5638680" y="3490920"/>
            <a:ext cx="297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s a result, the literacy rate climbed to nearly 90 percent by 190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2" descr="hsus_ch14_s3_LitChart"/>
          <p:cNvPicPr/>
          <p:nvPr/>
        </p:nvPicPr>
        <p:blipFill>
          <a:blip r:embed="rId1"/>
          <a:stretch/>
        </p:blipFill>
        <p:spPr>
          <a:xfrm>
            <a:off x="838080" y="3124080"/>
            <a:ext cx="4543560" cy="246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2"/>
          <p:cNvSpPr/>
          <p:nvPr/>
        </p:nvSpPr>
        <p:spPr>
          <a:xfrm flipH="1" rot="10792800">
            <a:off x="1054800" y="1296360"/>
            <a:ext cx="6934320" cy="1827000"/>
          </a:xfrm>
          <a:prstGeom prst="upArrowCallout">
            <a:avLst>
              <a:gd name="adj1" fmla="val 47202"/>
              <a:gd name="adj2" fmla="val 40133"/>
              <a:gd name="adj3" fmla="val 24014"/>
              <a:gd name="adj4" fmla="val 93971"/>
            </a:avLst>
          </a:prstGeom>
          <a:gradFill rotWithShape="0">
            <a:gsLst>
              <a:gs pos="0">
                <a:srgbClr val="cdcdff"/>
              </a:gs>
              <a:gs pos="100000">
                <a:srgbClr val="e8eae9"/>
              </a:gs>
            </a:gsLst>
            <a:lin ang="16194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9"/>
          <p:cNvSpPr/>
          <p:nvPr/>
        </p:nvSpPr>
        <p:spPr>
          <a:xfrm>
            <a:off x="1143000" y="137484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chools began to do a better job of preparing people for care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0"/>
          <p:cNvSpPr/>
          <p:nvPr/>
        </p:nvSpPr>
        <p:spPr>
          <a:xfrm>
            <a:off x="1066680" y="3352680"/>
            <a:ext cx="7239240" cy="28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Aft>
                <a:spcPts val="16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chools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taught skills that workers needed in budding industr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Aft>
                <a:spcPts val="16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achers attended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training schools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reformers such as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John Dewe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ntroduced new teaching metho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Aft>
                <a:spcPts val="16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iversities began to provid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specialized training for urban care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uch as social wo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838080" y="2209680"/>
            <a:ext cx="7467840" cy="3557880"/>
          </a:xfrm>
          <a:prstGeom prst="rect">
            <a:avLst/>
          </a:prstGeom>
          <a:gradFill rotWithShape="0">
            <a:gsLst>
              <a:gs pos="0">
                <a:srgbClr val="e8eae9"/>
              </a:gs>
              <a:gs pos="100000">
                <a:srgbClr val="c9c9ff"/>
              </a:gs>
            </a:gsLst>
            <a:lin ang="5400000"/>
          </a:gradFill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838080" y="14479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ducation for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52560" y="2209680"/>
          <a:ext cx="7238880" cy="3502080"/>
        </p:xfrm>
        <a:graphic>
          <a:graphicData uri="http://schemas.openxmlformats.org/drawingml/2006/table">
            <a:tbl>
              <a:tblPr/>
              <a:tblGrid>
                <a:gridCol w="2209680"/>
                <a:gridCol w="5029200"/>
              </a:tblGrid>
              <a:tr h="861120">
                <a:tc>
                  <a:txBody>
                    <a:bodyPr lIns="90000" rIns="90000" tIns="137160" bIns="13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Verdana"/>
                          <a:ea typeface="Arial"/>
                        </a:rPr>
                        <a:t>Immigr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137160" bIns="13716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chools </a:t>
                      </a: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Verdana"/>
                          <a:ea typeface="Arial"/>
                        </a:rPr>
                        <a:t>taught immigrants Englis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and helped Americanize the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1543320">
                <a:tc>
                  <a:txBody>
                    <a:bodyPr lIns="90000" rIns="90000" tIns="137160" bIns="13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Verdana"/>
                          <a:ea typeface="Arial"/>
                        </a:rPr>
                        <a:t>Wo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137160" bIns="13716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spcAft>
                          <a:spcPts val="1349"/>
                        </a:spcAft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 few careers were open to wome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spcAft>
                          <a:spcPts val="1349"/>
                        </a:spcAft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here was an </a:t>
                      </a: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Verdana"/>
                          <a:ea typeface="Arial"/>
                        </a:rPr>
                        <a:t>upsurge in women</a:t>
                      </a:r>
                      <a:r>
                        <a:rPr b="0" lang="ja-JP" sz="1800" spc="-1" strike="noStrike">
                          <a:solidFill>
                            <a:srgbClr val="0033cc"/>
                          </a:solidFill>
                          <a:latin typeface="Verdana"/>
                          <a:ea typeface="Arial"/>
                        </a:rPr>
                        <a:t>’</a:t>
                      </a: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Verdana"/>
                          <a:ea typeface="Arial"/>
                        </a:rPr>
                        <a:t>s colleges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and many state universities began to accept wome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90000" rIns="90000" tIns="137160" bIns="13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Verdana"/>
                          <a:ea typeface="Arial"/>
                        </a:rPr>
                        <a:t>African Americ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37160" bIns="13716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Limited access to white institutions led to a </a:t>
                      </a: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Verdana"/>
                          <a:ea typeface="Arial"/>
                        </a:rPr>
                        <a:t>growth in schools and colleges for African American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533520" y="2133720"/>
            <a:ext cx="8076960" cy="3995640"/>
          </a:xfrm>
          <a:prstGeom prst="rect">
            <a:avLst/>
          </a:prstGeom>
          <a:gradFill rotWithShape="0">
            <a:gsLst>
              <a:gs pos="0">
                <a:srgbClr val="e8eae9"/>
              </a:gs>
              <a:gs pos="100000">
                <a:srgbClr val="c9c9ff"/>
              </a:gs>
            </a:gsLst>
            <a:lin ang="5400000"/>
          </a:gradFill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143000" y="114300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uring the Gilded Age, new kinds of entertainment emerg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09480" y="2133720"/>
          <a:ext cx="7925040" cy="3830400"/>
        </p:xfrm>
        <a:graphic>
          <a:graphicData uri="http://schemas.openxmlformats.org/drawingml/2006/table">
            <a:tbl>
              <a:tblPr/>
              <a:tblGrid>
                <a:gridCol w="1828800"/>
                <a:gridCol w="6096240"/>
              </a:tblGrid>
              <a:tr h="846720">
                <a:tc>
                  <a:txBody>
                    <a:bodyPr lIns="90000" rIns="90000" tIns="137160" bIns="13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Verdana"/>
                          <a:ea typeface="Arial"/>
                        </a:rPr>
                        <a:t>Amusement Pa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137160" bIns="13716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33cc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Verdana"/>
                          <a:ea typeface="Arial"/>
                        </a:rPr>
                        <a:t>Coney Islan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and similar parks offered </a:t>
                      </a: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Verdana"/>
                          <a:ea typeface="Arial"/>
                        </a:rPr>
                        <a:t>roller coaster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and other rid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1269000">
                <a:tc>
                  <a:txBody>
                    <a:bodyPr lIns="90000" rIns="90000" tIns="137160" bIns="13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Verdana"/>
                          <a:ea typeface="Arial"/>
                        </a:rPr>
                        <a:t>Outdoor Ev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137160" bIns="13716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spcAft>
                          <a:spcPts val="1349"/>
                        </a:spcAft>
                        <a:buClr>
                          <a:srgbClr val="0033cc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Verdana"/>
                          <a:ea typeface="Arial"/>
                        </a:rPr>
                        <a:t>Buffalo Bill</a:t>
                      </a:r>
                      <a:r>
                        <a:rPr b="0" lang="ja-JP" sz="1800" spc="-1" strike="noStrike">
                          <a:solidFill>
                            <a:srgbClr val="0033cc"/>
                          </a:solidFill>
                          <a:latin typeface="Verdana"/>
                          <a:ea typeface="Arial"/>
                        </a:rPr>
                        <a:t>’</a:t>
                      </a: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Verdana"/>
                          <a:ea typeface="Arial"/>
                        </a:rPr>
                        <a:t>s Wild West Show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toured Americ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spcAft>
                          <a:spcPts val="1349"/>
                        </a:spcAft>
                        <a:buClr>
                          <a:srgbClr val="0033cc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Verdana"/>
                          <a:ea typeface="Arial"/>
                        </a:rPr>
                        <a:t>Chautauqua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offered storytelling, bands, singers, and lectures on politics and moral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137160" bIns="13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Verdana"/>
                          <a:ea typeface="Arial"/>
                        </a:rPr>
                        <a:t>Fun in      the 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37160" bIns="13716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spcAft>
                          <a:spcPts val="1349"/>
                        </a:spcAft>
                        <a:buClr>
                          <a:srgbClr val="ff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Vaudevil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shows were a mixture of musical drama, songs, and comed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spcAft>
                          <a:spcPts val="1349"/>
                        </a:spcAft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Nickelodeons introduced </a:t>
                      </a: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Verdana"/>
                          <a:ea typeface="Arial"/>
                        </a:rPr>
                        <a:t>motion pictur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spcAft>
                          <a:spcPts val="1349"/>
                        </a:spcAft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agtime bands played in </a:t>
                      </a: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Verdana"/>
                          <a:ea typeface="Arial"/>
                        </a:rPr>
                        <a:t>music hall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504960" y="1447920"/>
            <a:ext cx="51814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Baseball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merica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 national sport,  becam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extremely popula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during the Gilded Age, although it was segregated after 1887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HSUS_ch14_S3_CyYoung"/>
          <p:cNvPicPr/>
          <p:nvPr/>
        </p:nvPicPr>
        <p:blipFill>
          <a:blip r:embed="rId1"/>
          <a:stretch/>
        </p:blipFill>
        <p:spPr>
          <a:xfrm>
            <a:off x="595440" y="1295280"/>
            <a:ext cx="2528640" cy="47246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3505320" y="3581280"/>
            <a:ext cx="5181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Horse and bicycle racing, boxing, football, and basketbal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lso became popular spectator spor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9"/>
          <p:cNvSpPr/>
          <p:nvPr/>
        </p:nvSpPr>
        <p:spPr>
          <a:xfrm>
            <a:off x="838080" y="1828800"/>
            <a:ext cx="7164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plain how new types of stores and  marketing changed American lif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alyze the ways in which Americans developed a mass cul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scribe the new forms of popular entertainment in the late 1800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685880" y="45943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>
            <a:off x="455760" y="1141560"/>
            <a:ext cx="685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Objec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9"/>
          <p:cNvSpPr/>
          <p:nvPr/>
        </p:nvSpPr>
        <p:spPr>
          <a:xfrm>
            <a:off x="455760" y="1141560"/>
            <a:ext cx="7850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Terms and Peo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838080" y="1828800"/>
            <a:ext cx="7467840" cy="40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Mark Twain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satirical novelist who wrote about American life in the late 1800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Gilded Ag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erm coined by Mark Twain to describe the post-Reconstruction era which was characterized by a façade of prospe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conspicuous consumerism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urchasing of goods and services to impress ot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mass cultur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imilar consumption patterns as a result of the spread of transportation, communication, and adverti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837720" y="182880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90000"/>
              </a:lnSpc>
              <a:spcAft>
                <a:spcPts val="165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Joseph Pulitzer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 immigrant who became a publisher of sensationalistic newspap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Aft>
                <a:spcPts val="165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William Randolph Hearst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 competitor of Pulitzer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 who also published sensationalistic newspap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Aft>
                <a:spcPts val="165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Horatio Alger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novelist who wrote about characters who succeeded through hard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Aft>
                <a:spcPts val="165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vaudevill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ype of show, including dancing, singing, and comedy sketches, that became popular in the late 19th centu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455760" y="1143000"/>
            <a:ext cx="7850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Terms and Peop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1"/>
          <p:cNvSpPr/>
          <p:nvPr/>
        </p:nvSpPr>
        <p:spPr>
          <a:xfrm>
            <a:off x="1216080" y="172260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at luxuries did cities offer to the middle cla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1216080" y="2971800"/>
            <a:ext cx="69343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uring the last part of the 19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entury, a new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middle-class lifesty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gained popularity and influence in Ameri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ough some disliked the values of this era,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the American culture created then would persist for the next centu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HSUS09_EQ_logoSmall.jpg"/>
          <p:cNvPicPr/>
          <p:nvPr/>
        </p:nvPicPr>
        <p:blipFill>
          <a:blip r:embed="rId1"/>
          <a:stretch/>
        </p:blipFill>
        <p:spPr>
          <a:xfrm>
            <a:off x="457200" y="1828800"/>
            <a:ext cx="558720" cy="59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2"/>
          <p:cNvSpPr/>
          <p:nvPr/>
        </p:nvSpPr>
        <p:spPr>
          <a:xfrm>
            <a:off x="4572000" y="1523880"/>
            <a:ext cx="4191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his 1873 novel,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The Gilded Age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novelist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Mark Twai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atirically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depicted American society as gilded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r having a rotten core covered with gold pai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2"/>
          <p:cNvSpPr/>
          <p:nvPr/>
        </p:nvSpPr>
        <p:spPr>
          <a:xfrm>
            <a:off x="4572000" y="4100400"/>
            <a:ext cx="39625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st Americans were not as cynical, but Twain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 label stuck, and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historians call the late 19</a:t>
            </a:r>
            <a:r>
              <a:rPr b="0" lang="en-US" sz="2200" spc="-1" strike="noStrike" baseline="30000">
                <a:solidFill>
                  <a:srgbClr val="0033cc"/>
                </a:solidFill>
                <a:latin typeface="Verdana"/>
              </a:rPr>
              <a:t>th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 century th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Gilded A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109265151"/>
          <p:cNvPicPr/>
          <p:nvPr/>
        </p:nvPicPr>
        <p:blipFill>
          <a:blip r:embed="rId1"/>
          <a:stretch/>
        </p:blipFill>
        <p:spPr>
          <a:xfrm>
            <a:off x="1219320" y="1600200"/>
            <a:ext cx="2563560" cy="419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4919760" y="4094280"/>
            <a:ext cx="3124080" cy="1544040"/>
            <a:chOff x="4919760" y="4094280"/>
            <a:chExt cx="3124080" cy="1544040"/>
          </a:xfrm>
        </p:grpSpPr>
        <p:sp>
          <p:nvSpPr>
            <p:cNvPr id="67" name="Rectangle 3"/>
            <p:cNvSpPr/>
            <p:nvPr/>
          </p:nvSpPr>
          <p:spPr>
            <a:xfrm>
              <a:off x="4919760" y="4094280"/>
              <a:ext cx="3124080" cy="1544040"/>
            </a:xfrm>
            <a:prstGeom prst="rect">
              <a:avLst/>
            </a:prstGeom>
            <a:gradFill rotWithShape="0">
              <a:gsLst>
                <a:gs pos="0">
                  <a:srgbClr val="e8eae9"/>
                </a:gs>
                <a:gs pos="100000">
                  <a:srgbClr val="fed273"/>
                </a:gs>
              </a:gsLst>
              <a:lin ang="5400000"/>
            </a:gradFill>
            <a:ln w="12600">
              <a:solidFill>
                <a:srgbClr val="666699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21"/>
            <p:cNvSpPr/>
            <p:nvPr/>
          </p:nvSpPr>
          <p:spPr>
            <a:xfrm>
              <a:off x="5105520" y="4224240"/>
              <a:ext cx="28620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For many, this led to a culture of </a:t>
              </a:r>
              <a:r>
                <a:rPr b="1" lang="en-US" sz="2000" spc="-1" strike="noStrike">
                  <a:solidFill>
                    <a:srgbClr val="ff0000"/>
                  </a:solidFill>
                  <a:latin typeface="Verdana"/>
                </a:rPr>
                <a:t>conspicuous consumerism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3"/>
          <p:cNvGrpSpPr/>
          <p:nvPr/>
        </p:nvGrpSpPr>
        <p:grpSpPr>
          <a:xfrm>
            <a:off x="1109520" y="4094280"/>
            <a:ext cx="3962520" cy="1526760"/>
            <a:chOff x="1109520" y="4094280"/>
            <a:chExt cx="3962520" cy="1526760"/>
          </a:xfrm>
        </p:grpSpPr>
        <p:sp>
          <p:nvSpPr>
            <p:cNvPr id="70" name="AutoShape 5"/>
            <p:cNvSpPr/>
            <p:nvPr/>
          </p:nvSpPr>
          <p:spPr>
            <a:xfrm rot="16200000">
              <a:off x="4119480" y="4433760"/>
              <a:ext cx="914400" cy="990720"/>
            </a:xfrm>
            <a:prstGeom prst="downArrow">
              <a:avLst>
                <a:gd name="adj1" fmla="val 49741"/>
                <a:gd name="adj2" fmla="val 34209"/>
              </a:avLst>
            </a:prstGeom>
            <a:gradFill rotWithShape="0">
              <a:gsLst>
                <a:gs pos="0">
                  <a:srgbClr val="83d7e5"/>
                </a:gs>
                <a:gs pos="100000">
                  <a:srgbClr val="e8eae9"/>
                </a:gs>
              </a:gsLst>
              <a:lin ang="10800000"/>
            </a:gradFill>
            <a:ln w="9360">
              <a:solidFill>
                <a:srgbClr val="666699"/>
              </a:solidFill>
              <a:miter/>
            </a:ln>
            <a:effectLst>
              <a:outerShdw dist="45929" dir="2028877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6"/>
            <p:cNvGrpSpPr/>
            <p:nvPr/>
          </p:nvGrpSpPr>
          <p:grpSpPr>
            <a:xfrm>
              <a:off x="1109520" y="4094280"/>
              <a:ext cx="3124440" cy="1526760"/>
              <a:chOff x="1109520" y="4094280"/>
              <a:chExt cx="3124440" cy="1526760"/>
            </a:xfrm>
          </p:grpSpPr>
          <p:sp>
            <p:nvSpPr>
              <p:cNvPr id="72" name="Rectangle 7"/>
              <p:cNvSpPr/>
              <p:nvPr/>
            </p:nvSpPr>
            <p:spPr>
              <a:xfrm>
                <a:off x="1109520" y="4094280"/>
                <a:ext cx="3124440" cy="1526760"/>
              </a:xfrm>
              <a:prstGeom prst="rect">
                <a:avLst/>
              </a:prstGeom>
              <a:gradFill rotWithShape="0">
                <a:gsLst>
                  <a:gs pos="0">
                    <a:srgbClr val="e8eae9"/>
                  </a:gs>
                  <a:gs pos="100000">
                    <a:srgbClr val="83d7e5"/>
                  </a:gs>
                </a:gsLst>
                <a:lin ang="5400000"/>
              </a:gradFill>
              <a:ln w="12600">
                <a:solidFill>
                  <a:srgbClr val="666699"/>
                </a:solidFill>
                <a:miter/>
              </a:ln>
              <a:effectLst>
                <a:outerShdw dist="53966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Text Box 21"/>
              <p:cNvSpPr/>
              <p:nvPr/>
            </p:nvSpPr>
            <p:spPr>
              <a:xfrm>
                <a:off x="1295280" y="4200480"/>
                <a:ext cx="286236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More people had </a:t>
                </a:r>
                <a:r>
                  <a:rPr b="0" lang="en-US" sz="2000" spc="-1" strike="noStrike">
                    <a:solidFill>
                      <a:srgbClr val="0033cc"/>
                    </a:solidFill>
                    <a:latin typeface="Verdana"/>
                  </a:rPr>
                  <a:t>more money,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 and </a:t>
                </a:r>
                <a:r>
                  <a:rPr b="0" lang="en-US" sz="2000" spc="-1" strike="noStrike">
                    <a:solidFill>
                      <a:srgbClr val="0033cc"/>
                    </a:solidFill>
                    <a:latin typeface="Verdana"/>
                  </a:rPr>
                  <a:t>more product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 were available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" name="AutoShape 9"/>
          <p:cNvSpPr/>
          <p:nvPr/>
        </p:nvSpPr>
        <p:spPr>
          <a:xfrm>
            <a:off x="2090880" y="2874960"/>
            <a:ext cx="914400" cy="1295280"/>
          </a:xfrm>
          <a:prstGeom prst="downArrow">
            <a:avLst>
              <a:gd name="adj1" fmla="val 50000"/>
              <a:gd name="adj2" fmla="val 35413"/>
            </a:avLst>
          </a:prstGeom>
          <a:gradFill rotWithShape="0">
            <a:gsLst>
              <a:gs pos="0">
                <a:srgbClr val="c9c9ff"/>
              </a:gs>
              <a:gs pos="100000">
                <a:srgbClr val="e8eae9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0"/>
          <p:cNvGrpSpPr/>
          <p:nvPr/>
        </p:nvGrpSpPr>
        <p:grpSpPr>
          <a:xfrm>
            <a:off x="1095480" y="1600200"/>
            <a:ext cx="6948360" cy="1458720"/>
            <a:chOff x="1095480" y="1600200"/>
            <a:chExt cx="6948360" cy="1458720"/>
          </a:xfrm>
        </p:grpSpPr>
        <p:sp>
          <p:nvSpPr>
            <p:cNvPr id="76" name="Rectangle 11"/>
            <p:cNvSpPr/>
            <p:nvPr/>
          </p:nvSpPr>
          <p:spPr>
            <a:xfrm>
              <a:off x="1095480" y="1600200"/>
              <a:ext cx="6948360" cy="1458720"/>
            </a:xfrm>
            <a:prstGeom prst="rect">
              <a:avLst/>
            </a:prstGeom>
            <a:gradFill rotWithShape="0">
              <a:gsLst>
                <a:gs pos="0">
                  <a:srgbClr val="e8eae9"/>
                </a:gs>
                <a:gs pos="100000">
                  <a:srgbClr val="c9c9ff"/>
                </a:gs>
              </a:gsLst>
              <a:lin ang="5400000"/>
            </a:gradFill>
            <a:ln w="12600">
              <a:solidFill>
                <a:srgbClr val="666699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21"/>
            <p:cNvSpPr/>
            <p:nvPr/>
          </p:nvSpPr>
          <p:spPr>
            <a:xfrm>
              <a:off x="1295280" y="1707480"/>
              <a:ext cx="6672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dustrialization and urbanization changed the lives of American workers, as more people began to work for wages rather than for themselves on farm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9"/>
          <p:cNvSpPr/>
          <p:nvPr/>
        </p:nvSpPr>
        <p:spPr>
          <a:xfrm>
            <a:off x="457200" y="1371600"/>
            <a:ext cx="8110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y the 1870s, many big cities had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department stores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hich turned shopping into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a form of entertainme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or middle-class men and wom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9" descr="HSUS_ch14_S3_DeptStore"/>
          <p:cNvPicPr/>
          <p:nvPr/>
        </p:nvPicPr>
        <p:blipFill>
          <a:blip r:embed="rId1"/>
          <a:stretch/>
        </p:blipFill>
        <p:spPr>
          <a:xfrm>
            <a:off x="561960" y="2924280"/>
            <a:ext cx="4772160" cy="2485800"/>
          </a:xfrm>
          <a:prstGeom prst="rect">
            <a:avLst/>
          </a:prstGeom>
          <a:ln w="9360">
            <a:solidFill>
              <a:srgbClr val="666699"/>
            </a:solidFill>
            <a:miter/>
          </a:ln>
        </p:spPr>
      </p:pic>
      <p:sp>
        <p:nvSpPr>
          <p:cNvPr id="80" name="Rectangle 70"/>
          <p:cNvSpPr/>
          <p:nvPr/>
        </p:nvSpPr>
        <p:spPr>
          <a:xfrm>
            <a:off x="5638680" y="2948040"/>
            <a:ext cx="30052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partment stores attracted customers with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widespread advertis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a variety of high-quality goods at fair pri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29"/>
          <p:cNvSpPr/>
          <p:nvPr/>
        </p:nvSpPr>
        <p:spPr>
          <a:xfrm>
            <a:off x="1066680" y="5334120"/>
            <a:ext cx="72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lso, better sanitation and medical care contributed to a longer life expectanc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3"/>
          <p:cNvGrpSpPr/>
          <p:nvPr/>
        </p:nvGrpSpPr>
        <p:grpSpPr>
          <a:xfrm>
            <a:off x="837720" y="1523880"/>
            <a:ext cx="4267080" cy="3353040"/>
            <a:chOff x="837720" y="1523880"/>
            <a:chExt cx="4267080" cy="3353040"/>
          </a:xfrm>
        </p:grpSpPr>
        <p:sp>
          <p:nvSpPr>
            <p:cNvPr id="83" name="AutoShape 4"/>
            <p:cNvSpPr/>
            <p:nvPr/>
          </p:nvSpPr>
          <p:spPr>
            <a:xfrm flipH="1" rot="5400000">
              <a:off x="1294200" y="1066680"/>
              <a:ext cx="3353040" cy="4267080"/>
            </a:xfrm>
            <a:prstGeom prst="upArrowCallout">
              <a:avLst>
                <a:gd name="adj1" fmla="val 13418"/>
                <a:gd name="adj2" fmla="val 12500"/>
                <a:gd name="adj3" fmla="val 20144"/>
                <a:gd name="adj4" fmla="val 53315"/>
              </a:avLst>
            </a:prstGeom>
            <a:gradFill rotWithShape="0">
              <a:gsLst>
                <a:gs pos="0">
                  <a:srgbClr val="00b0f0">
                    <a:alpha val="50196"/>
                  </a:srgbClr>
                </a:gs>
                <a:gs pos="100000">
                  <a:srgbClr val="e8eae9"/>
                </a:gs>
              </a:gsLst>
              <a:lin ang="18900000"/>
            </a:gradFill>
            <a:ln w="9360">
              <a:solidFill>
                <a:srgbClr val="ccccff"/>
              </a:solidFill>
              <a:miter/>
            </a:ln>
            <a:effectLst>
              <a:outerShdw dist="53966" dir="2700000" blurRad="0" rotWithShape="0">
                <a:srgbClr val="adc793">
                  <a:alpha val="4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7"/>
            <p:cNvSpPr/>
            <p:nvPr/>
          </p:nvSpPr>
          <p:spPr>
            <a:xfrm>
              <a:off x="916920" y="1802880"/>
              <a:ext cx="2946600" cy="24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People began to </a:t>
              </a:r>
              <a:r>
                <a:rPr b="0" lang="en-US" sz="2200" spc="-1" strike="noStrike">
                  <a:solidFill>
                    <a:srgbClr val="0033cc"/>
                  </a:solidFill>
                  <a:latin typeface="Verdana"/>
                </a:rPr>
                <a:t>measure success by what they could buy,</a:t>
              </a: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 and they equated purchasing power with a </a:t>
              </a:r>
              <a:r>
                <a:rPr b="0" lang="en-US" sz="2200" spc="-1" strike="noStrike">
                  <a:solidFill>
                    <a:srgbClr val="0033cc"/>
                  </a:solidFill>
                  <a:latin typeface="Verdana"/>
                </a:rPr>
                <a:t>higher standard of living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 Box 129"/>
          <p:cNvSpPr/>
          <p:nvPr/>
        </p:nvSpPr>
        <p:spPr>
          <a:xfrm>
            <a:off x="5334120" y="2089080"/>
            <a:ext cx="3124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this period,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the cost of living decrease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ecause manufactured products and new technology cost l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0:35:12Z</dcterms:created>
  <dc:creator>Helene Avraham</dc:creator>
  <dc:description/>
  <dc:language>en-US</dc:language>
  <cp:lastModifiedBy>Mark Scacewater</cp:lastModifiedBy>
  <cp:lastPrinted>2008-05-21T18:42:16Z</cp:lastPrinted>
  <dcterms:modified xsi:type="dcterms:W3CDTF">2012-09-30T20:51:34Z</dcterms:modified>
  <cp:revision>205</cp:revision>
  <dc:subject/>
  <dc:title>PresentationExp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